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60AF5-54CE-4C20-A728-EAFE3330F7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ote – more relations defined and used in test ontology – not shown 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I’m going to quickly take you through the running example I’m going to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is a stage 8 Drosophila embry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heck Fabian’s formal version to make vernacular form to deal with ‘or after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28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e VNC primordium has GMC 7-1b as a part from stage 9 to stage 13, but not before or af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U2 neurons are part of the VNC primordium from stage 12, AND part of the VNC from stage 17 through larval sta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dd or discuss – relation to has_part de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dd or discuss: Relation to part_of d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euroblasts delaminate from the VNE, and then bud off daughter cells called ganglion mother cel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nce delaminated, Neuroblasts become part of a growing tissue called the Ventral nerve cord primordium.  Ganglion mother cells stay close to the NB the bud fr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just shows the same thing a bit later.  More NBs, many more GM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is just to show, that the timing of delamination is predictable for each type of neuroblast.  Different NBs delaminated at different ti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3000" indent="-24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shows developmental lineage of the U2 neur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-24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uring stage 8, neuroblast NB7-1 delaminates from the VNE and becomes part of the VNC primor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(ii) During stage 9, GMC 7-1b buds from NB 7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(iii) Towards the end of stage 12, GMC7-1b divides and one of the progeny starts to differentiate into a U2 neur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e need a staging system to record when GMC 7-1b exists… - various types of staging system have been built by different MODS.  We’ve tried to standardise and formalise on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Part relations shown cannot be recorded (I’ll show you why later).  So, from the ontology, our curator can’t tell what GMC 7-1b is part of. And, in grouping gene expression, we can’t deduce that a gene expressed in GMC 7-1b is expressed in part of the VNC primordiu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1. We treat developmental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mphasise - This applies to development of a whole animal, of some part of that animal or to processes that are repeated many times during development – e.g.- ommatidial development, or in an adult – e.g.- oogen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913-7FD3-4508-A0B3-106C6CB7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F77-F0D1-48B9-95D9-EFFF0C07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14D-992B-4D99-8283-A48D7920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F9A-44FF-422C-8BE8-C08D73BF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1B1-91D5-4D4D-9F67-A8EE862C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4FB-11F1-4797-B491-0DDF0CCD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5D0-D086-40CA-9131-BEBB6F11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CCA-4A4A-464B-ACE5-59C7AB0D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BEB-722F-4FFF-BE71-BE2C8A52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A1B-2135-4591-A3EA-FAE450CA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F9A-7C11-4A41-9334-DB499345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CA8-0366-46D1-AD70-C7ACAAE7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33C8D-E636-4354-8E2D-7F68C05415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Representing Develo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vid Osumi-Sutherland 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bian Neuhaus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ystem for ordering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907236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s are treated as instants – they  have no time dim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only 2 types of timing relationships between event instances (e, 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&lt;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ultaneo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≈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can be derive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_or_simultaneous_ with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: e&lt;f := e≤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NOT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: e≈f := e≤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44680" y="4032360"/>
            <a:ext cx="3968640" cy="357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57240" y="3476520"/>
            <a:ext cx="3968640" cy="35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4680" y="4151160"/>
            <a:ext cx="1800" cy="5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24440" y="3486240"/>
            <a:ext cx="14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58800" y="4711680"/>
            <a:ext cx="150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x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27800" y="4651200"/>
            <a:ext cx="15714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x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13320" y="429588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68400" y="3484440"/>
            <a:ext cx="144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6200" y="2000160"/>
            <a:ext cx="1230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81400" y="4630680"/>
            <a:ext cx="1463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p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2040" y="5002200"/>
            <a:ext cx="1425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q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0" y="441360"/>
            <a:ext cx="99997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iming relations between instances of occurrents, continu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38560" y="1946160"/>
            <a:ext cx="50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(p)  - beginning of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(p) - end of an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om: α(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(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3680" y="3303720"/>
            <a:ext cx="1057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8280" y="29034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000" y="5748480"/>
            <a:ext cx="9072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arts_dur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p := (α(p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α(x)) AND (α(x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ω(p)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3476520"/>
            <a:ext cx="2513160" cy="35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2360" y="4552920"/>
            <a:ext cx="1425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p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34080" y="4707000"/>
            <a:ext cx="1571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q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31120" y="3498840"/>
            <a:ext cx="14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variability of the order of two events is always relative to some reference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before Y during o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instances of oogenesis occur in parallel in an adult female, but with no shared start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, relative to the life of an adult female, X and Y have no invariant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osophila O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60360" y="1979640"/>
            <a:ext cx="3959280" cy="5040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877080" y="723960"/>
            <a:ext cx="1927080" cy="65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rnary rela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erence processes could be recorded using ternary relations (A before B during C...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these are not supported in OWL or OBO, or by their respective editing tools – Protege and OBO-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1640" y="93240"/>
            <a:ext cx="907128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to avoid using ternary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1440000"/>
            <a:ext cx="9070920" cy="59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type for which timing is to be captured – record a reference occur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 :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Continuant or Occurrent types have only one referenc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ccurrents occur only once during their referenc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a is an occurrant, then 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f_occurrant(a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a is a continuant, then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ticipates_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f_occurrant(a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430200"/>
            <a:ext cx="9070920" cy="67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-&gt;  (Universal(x) &amp; is_a(y,Occurrent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 referenceoccurrent(x, z) -&gt;  (y =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is_a(x,Occurrent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x1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x, x1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y, 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ilo_part(x1,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all y1 (I(y,y1) &amp; ilo_part(x1, y1) -&gt; (y1 = refoccurrent(x1)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is_a(x,Continuant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x1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x, x1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y, 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participates_in(x1,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all y1 (I(y,y1) &amp; participates_in(x1, y1) -&gt; (y1 = refoccurrent(x1)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vision of reference process into a reference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544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5452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684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3736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9052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71440" y="2055960"/>
            <a:ext cx="74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4600" y="18716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78160" y="228132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90520" y="2894040"/>
            <a:ext cx="93348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ellular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29440" y="2843280"/>
            <a:ext cx="27338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omodeal invag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76360" y="2908440"/>
            <a:ext cx="27338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3564000"/>
            <a:ext cx="3995640" cy="3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rm band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18520" y="3435480"/>
            <a:ext cx="154620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P invag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7280" y="2317680"/>
            <a:ext cx="776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520" y="2843280"/>
            <a:ext cx="1004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n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4319640"/>
            <a:ext cx="792000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strulati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mbry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bryonic stage 5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mbry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strulati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begins_at_end_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 embryonic stag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modeal invagination begins_at_end_of embryonic stage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14440" y="2352600"/>
            <a:ext cx="6555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begins_at_end_of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– formal 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begin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_at_end_of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↔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O is_a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 P</a:t>
            </a:r>
            <a:r>
              <a:rPr b="1" lang="en-GB" sz="3200" spc="-1" strike="noStrike" baseline="-42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_a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∀o (O(o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 ∃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 (P(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refoccurrent(o) = refoccurrent(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(omega(p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pha(o)))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st of type level relation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que*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current to unique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at_end_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d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ds_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imultaneous_with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happens_during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 Unique here means, happens only once during refere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2 non-essential but reduces number of relationship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87720" y="8380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10360" y="694044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985680"/>
            <a:ext cx="5219640" cy="5673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341964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E = Ventral 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656160" y="46767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4488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3720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2628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418600" y="46767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5480" y="1531800"/>
            <a:ext cx="91281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s to exist during*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S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tart to exist during* </a:t>
            </a:r>
            <a:r>
              <a:rPr b="1" lang="en-GB" sz="2000" spc="-1" strike="noStrike">
                <a:solidFill>
                  <a:srgbClr val="aecf00"/>
                </a:solidFill>
                <a:latin typeface="Arial"/>
              </a:rPr>
              <a:t>ES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start to exist after the end of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 of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during is shorthand for 'the start of X is after the start of Y and before the end of Y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14840" y="5343480"/>
            <a:ext cx="1085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5329080"/>
            <a:ext cx="4700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83120" y="592452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890960" y="536688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080" y="5545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9997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iming relations between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560" y="4545000"/>
            <a:ext cx="1057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30560" y="41497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_a inheritance of ti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56160" y="43275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4488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3720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2628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418600" y="43275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44880" y="5041800"/>
            <a:ext cx="476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6160" y="5041800"/>
            <a:ext cx="11919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25880" y="535788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86440" y="5357880"/>
            <a:ext cx="2432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69280" y="591192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54320" y="5911920"/>
            <a:ext cx="13496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4960" y="6227640"/>
            <a:ext cx="1906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848120" y="535284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48720" y="58532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23320" y="5033880"/>
            <a:ext cx="7920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0360" y="1501920"/>
            <a:ext cx="91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cease_to_exist_during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12 (ES12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50840" y="546084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12120" y="535788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– formal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_begin_to_exist_during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 is_a Continu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is_a  Occur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∀ c ∀ t  ( C (c,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 ∃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(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ccurrent(c) = refoccurrent(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pha(o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pha(c)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pha(c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mega(o)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93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st of type level timing relation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8720" y="1292040"/>
            <a:ext cx="9070920" cy="64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que*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current to non-unique continu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ast_exist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_begin_to_exist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_cease_to_exist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to_exist_at_end_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to_exist_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eases_to_exist_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ists_only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 Unique here means, happens only once during refere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2 non-essential but reduced number of relationship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48768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7676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9080" y="306720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5960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5012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76760" y="378144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87680" y="378144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57760" y="409896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4098960"/>
            <a:ext cx="24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00800" y="4651200"/>
            <a:ext cx="13496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34000" y="61596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4651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915080" y="5519520"/>
            <a:ext cx="64440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10360" y="4967280"/>
            <a:ext cx="191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681440" y="409392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80240" y="45943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0000" y="3940200"/>
            <a:ext cx="476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89480" y="3940200"/>
            <a:ext cx="11919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667560" y="5358960"/>
            <a:ext cx="55404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854840" y="3774960"/>
            <a:ext cx="7956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189840" y="3933720"/>
            <a:ext cx="79344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6120" y="2006640"/>
            <a:ext cx="9128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31120" y="409896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54640" y="57196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99560" y="5608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7520" y="42876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’t record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 has_par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08000" y="2130480"/>
            <a:ext cx="80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as_p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, no matter what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800" y="4834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6480" y="6118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847760" y="5313240"/>
            <a:ext cx="1908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75360" y="6566040"/>
            <a:ext cx="89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1120" y="6188040"/>
            <a:ext cx="13478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08560" y="5281560"/>
            <a:ext cx="24876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2160" y="69390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601720" y="3557520"/>
            <a:ext cx="7124760" cy="1800"/>
            <a:chOff x="2601720" y="3557520"/>
            <a:chExt cx="7124760" cy="1800"/>
          </a:xfrm>
        </p:grpSpPr>
        <p:sp>
          <p:nvSpPr>
            <p:cNvPr id="294" name=""/>
            <p:cNvSpPr/>
            <p:nvPr/>
          </p:nvSpPr>
          <p:spPr>
            <a:xfrm flipH="1">
              <a:off x="2601720" y="3557520"/>
              <a:ext cx="5702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292960" y="3557520"/>
              <a:ext cx="14335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8543880" y="3898800"/>
            <a:ext cx="1192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97280" y="3745080"/>
            <a:ext cx="592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35200" y="37450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081760" y="3746160"/>
            <a:ext cx="11617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8259840" y="3900600"/>
            <a:ext cx="8398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77960" y="285588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418000" y="3578040"/>
            <a:ext cx="167976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22720" y="539892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86560" y="531504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0"/>
            <a:ext cx="9072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’t record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0720" y="1177920"/>
            <a:ext cx="849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2 neur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_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NC pri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for all stages that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2 neur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7236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lution to the part problem:</a:t>
            </a:r>
            <a:br>
              <a:rPr sz="4000"/>
            </a:b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ime_restricted_integral_part_of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ri_part_of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5880" y="25700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ny time point where some instance of X and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of Y ex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s of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 of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 of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s of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time_restricted_integral_part_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1640" y="1547640"/>
            <a:ext cx="9071280" cy="572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is_a Continu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is_a  Continu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 (C (c, 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( d,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t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)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 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has_pa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is_a Continua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is_a  Continu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 (C (c, 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( d,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t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)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39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 tr_integral_part_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part_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&amp; 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has_part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005360" y="35434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9588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77280" y="35434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76924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95880" y="425772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05360" y="4257720"/>
            <a:ext cx="11919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75440" y="4573440"/>
            <a:ext cx="10299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308640" y="4554000"/>
            <a:ext cx="2489400" cy="2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18480" y="51274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53120" y="6635880"/>
            <a:ext cx="1347840" cy="715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03880" y="51274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94320" y="5942160"/>
            <a:ext cx="63504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34160" y="5443560"/>
            <a:ext cx="19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199120" y="456840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97920" y="50688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86160" y="61293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4880" y="5923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97320" y="441648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06800" y="44164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181640" y="5842080"/>
            <a:ext cx="56340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83400" y="600084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04960" y="512748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129120" y="5448240"/>
            <a:ext cx="1201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97280" y="47322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89640" y="4429080"/>
            <a:ext cx="2417760" cy="1461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94440" y="4255920"/>
            <a:ext cx="4881600" cy="1587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8373960" y="4251240"/>
            <a:ext cx="7956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707160" y="4410000"/>
            <a:ext cx="7938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99120" y="4414680"/>
            <a:ext cx="119052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6120" y="520560"/>
            <a:ext cx="9128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 (VNC prim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cease_to_exist_during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 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 (VNC prim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850240" y="4573440"/>
            <a:ext cx="1030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771040" y="4400640"/>
            <a:ext cx="118908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16480" y="6118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47760" y="5313240"/>
            <a:ext cx="1908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3280" y="244440"/>
            <a:ext cx="91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otor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13 (ES13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81040" y="444168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903040" y="4762440"/>
            <a:ext cx="1202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40449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75360" y="6566040"/>
            <a:ext cx="89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161120" y="6188040"/>
            <a:ext cx="13478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08560" y="5281560"/>
            <a:ext cx="24876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0" y="53848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36920" y="535608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02160" y="69390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01720" y="3557520"/>
            <a:ext cx="7124760" cy="1800"/>
            <a:chOff x="2601720" y="3557520"/>
            <a:chExt cx="7124760" cy="1800"/>
          </a:xfrm>
        </p:grpSpPr>
        <p:sp>
          <p:nvSpPr>
            <p:cNvPr id="365" name=""/>
            <p:cNvSpPr/>
            <p:nvPr/>
          </p:nvSpPr>
          <p:spPr>
            <a:xfrm flipH="1">
              <a:off x="2601720" y="3557520"/>
              <a:ext cx="5702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8292960" y="3557520"/>
              <a:ext cx="14335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8543880" y="3898800"/>
            <a:ext cx="1192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97280" y="3745080"/>
            <a:ext cx="592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35200" y="37450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081760" y="3746160"/>
            <a:ext cx="11617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8259840" y="3900600"/>
            <a:ext cx="8398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4680" y="3556080"/>
            <a:ext cx="4782960" cy="172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77960" y="285588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418000" y="3578040"/>
            <a:ext cx="167976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566200" y="3730680"/>
            <a:ext cx="118908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10000" y="2144880"/>
            <a:ext cx="3409920" cy="4079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09520"/>
            <a:ext cx="9072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uroblast delamination from the ventral neurectode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440400" y="4746240"/>
            <a:ext cx="68112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34480" y="4551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313320" y="3951360"/>
            <a:ext cx="68112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86520" y="370368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glion moth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4520" y="2959200"/>
            <a:ext cx="433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8960" y="3440160"/>
            <a:ext cx="82692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9360" y="4862520"/>
            <a:ext cx="480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70360" y="5614920"/>
            <a:ext cx="617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400" y="5384880"/>
            <a:ext cx="175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70320" y="1943280"/>
            <a:ext cx="27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38000" y="2476440"/>
            <a:ext cx="17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N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6080" y="6632640"/>
            <a:ext cx="48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gure from Doe, 1992, Development: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59080" y="6127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780000" y="3780000"/>
            <a:ext cx="2857320" cy="3288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21280" y="5921280"/>
            <a:ext cx="1003320" cy="598680"/>
          </a:xfrm>
          <a:custGeom>
            <a:avLst/>
            <a:gdLst/>
            <a:ahLst/>
            <a:rect l="l" t="t" r="r" b="b"/>
            <a:pathLst>
              <a:path w="573" h="342">
                <a:moveTo>
                  <a:pt x="0" y="0"/>
                </a:moveTo>
                <a:lnTo>
                  <a:pt x="141" y="42"/>
                </a:lnTo>
                <a:lnTo>
                  <a:pt x="339" y="144"/>
                </a:lnTo>
                <a:lnTo>
                  <a:pt x="393" y="141"/>
                </a:lnTo>
                <a:lnTo>
                  <a:pt x="444" y="168"/>
                </a:lnTo>
                <a:lnTo>
                  <a:pt x="573" y="213"/>
                </a:lnTo>
                <a:lnTo>
                  <a:pt x="501" y="342"/>
                </a:lnTo>
                <a:lnTo>
                  <a:pt x="318" y="282"/>
                </a:lnTo>
                <a:lnTo>
                  <a:pt x="141" y="189"/>
                </a:lnTo>
                <a:lnTo>
                  <a:pt x="69" y="159"/>
                </a:lnTo>
                <a:lnTo>
                  <a:pt x="30" y="78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854440" y="5217840"/>
            <a:ext cx="128088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19520" y="449424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ner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5843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ganglion mother cell)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3440" y="689436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57560" y="539640"/>
            <a:ext cx="5481360" cy="2700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2757600" y="2892240"/>
            <a:ext cx="1665000" cy="170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03680" y="7254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9280" y="3830760"/>
            <a:ext cx="3174840" cy="3225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67320" y="6037200"/>
            <a:ext cx="850680" cy="566640"/>
          </a:xfrm>
          <a:custGeom>
            <a:avLst/>
            <a:gdLst/>
            <a:ahLst/>
            <a:rect l="l" t="t" r="r" b="b"/>
            <a:pathLst>
              <a:path w="486" h="324">
                <a:moveTo>
                  <a:pt x="0" y="0"/>
                </a:moveTo>
                <a:cubicBezTo>
                  <a:pt x="2" y="42"/>
                  <a:pt x="6" y="168"/>
                  <a:pt x="6" y="126"/>
                </a:cubicBezTo>
                <a:lnTo>
                  <a:pt x="210" y="270"/>
                </a:lnTo>
                <a:lnTo>
                  <a:pt x="438" y="324"/>
                </a:lnTo>
                <a:lnTo>
                  <a:pt x="486" y="144"/>
                </a:lnTo>
                <a:lnTo>
                  <a:pt x="384" y="96"/>
                </a:lnTo>
                <a:lnTo>
                  <a:pt x="246" y="90"/>
                </a:lnTo>
                <a:lnTo>
                  <a:pt x="126" y="6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506760" y="6252840"/>
            <a:ext cx="106056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41760" y="610380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ner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27840" y="718668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30320" y="590400"/>
            <a:ext cx="635004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85960" y="1720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e stag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8720" y="1658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g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200" y="4479840"/>
            <a:ext cx="77835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0880" y="446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rly ES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62960" y="168912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e stag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2720" y="3412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uroblast delamination from VNE to VNC primor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120" y="5203800"/>
            <a:ext cx="88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circle is a specific neuroblast (NB)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ours denote gene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1800" y="2260440"/>
            <a:ext cx="2705400" cy="261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89480" y="2224080"/>
            <a:ext cx="2512800" cy="2624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2040" y="2205000"/>
            <a:ext cx="2390760" cy="2695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76520" y="3332160"/>
            <a:ext cx="74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51440" y="3303720"/>
            <a:ext cx="74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6080" y="6632640"/>
            <a:ext cx="48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gure from Doe, 1992, Development: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 of U2 neu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59236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262080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852960" y="2913120"/>
            <a:ext cx="711000" cy="144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782960" y="2940120"/>
            <a:ext cx="611280" cy="144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84720" y="4781160"/>
            <a:ext cx="14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8160" y="160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3480" y="260676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20480" y="2968560"/>
            <a:ext cx="91908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8240" y="264960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81760" y="2016000"/>
            <a:ext cx="1440" cy="6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27440" y="2057400"/>
            <a:ext cx="144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44360" y="156672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2560" y="15796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51080" y="439884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56040" y="441324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943080" y="4732200"/>
            <a:ext cx="61092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7560" y="540216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64520" y="2044800"/>
            <a:ext cx="144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8521560" y="5824440"/>
            <a:ext cx="61128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9960" y="5599080"/>
            <a:ext cx="19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03560" y="3471840"/>
            <a:ext cx="541440" cy="7556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355560" y="3541680"/>
            <a:ext cx="2514600" cy="7002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649680" y="3443400"/>
            <a:ext cx="4643280" cy="8254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084360" y="3486240"/>
            <a:ext cx="248796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8478720" y="5514840"/>
            <a:ext cx="611280" cy="1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19760" y="52894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11280" y="6521400"/>
            <a:ext cx="660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 specific part relations such as these cannot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rded using standard OBO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mitations of curre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45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27760" y="5950080"/>
            <a:ext cx="1349280" cy="715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3520" y="5315040"/>
            <a:ext cx="63468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10240" y="4757760"/>
            <a:ext cx="19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4000" y="4383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00520" y="54720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957720" y="5154480"/>
            <a:ext cx="56340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53989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3280" y="1406520"/>
            <a:ext cx="912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 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7-1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81040" y="444168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903040" y="4762440"/>
            <a:ext cx="1202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74800" y="40449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137200" y="4013280"/>
            <a:ext cx="419040" cy="23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5880" y="356868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eded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 to connect anatomy to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7961400" y="4054320"/>
            <a:ext cx="218880" cy="1922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37000" y="3416400"/>
            <a:ext cx="4703760" cy="1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66040" y="3443400"/>
            <a:ext cx="1440" cy="182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664320" y="3927600"/>
            <a:ext cx="420840" cy="18856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123640" y="5796000"/>
            <a:ext cx="2529000" cy="7002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70320" y="5608800"/>
            <a:ext cx="2954520" cy="3031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6200" y="6396120"/>
            <a:ext cx="43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Need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system for capturing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ge specific part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868480"/>
            <a:ext cx="26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= embryonic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developmental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90400" y="1979640"/>
            <a:ext cx="8229600" cy="77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y developmental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ocess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- development of a whole organism) many events happen in an invariant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events can be used as markers of developmental progress or time. This is the basis of many standard stage 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marker events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rth, death, or transformation an anatomical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eginning, end and key point in a development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weyB</dc:creator>
  <dc:description/>
  <dc:language>en-US</dc:language>
  <cp:lastModifiedBy>DeweyB</cp:lastModifiedBy>
  <cp:revision>0</cp:revision>
  <dc:subject/>
  <dc:title/>
</cp:coreProperties>
</file>